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378-D9F3-4BEE-A3D0-57B739C8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DC5-9127-40DE-882D-3916D84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131-ECEF-4BFE-A054-D68F5BCF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8E3-240F-424C-BA61-5A9BF8D2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D5B6-7B51-42ED-AA72-37E589BB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767-0DB7-41A7-B42C-03F3230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3677-1172-47E1-B771-32D1A42B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834-3EE9-4481-86E8-5C95E92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6F57-D526-4A2E-A903-D3C37826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739F-8023-4BC1-B32F-31B9C934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C08-6EB6-489C-97D1-1E1D540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7E2-921D-4411-84C5-449A2274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C345-22C7-4BB9-8821-09163D0E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779E-2E03-4E30-8711-A068D412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72B8-30D7-43EF-80B7-5F104BE5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EF85-981D-4BD5-BB44-F8EA3DB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910-5A6B-45C8-98D1-1B062D53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EA2-87EF-4298-8731-ADDD0306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BBB-4C3B-4AC5-8CC7-38217A1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243-8FBE-4803-B20E-147A3A57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AEE-8247-4D6F-9932-D70B181A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188-8F85-49E6-8C15-EDE0BD8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0A0-8976-4364-9331-22950747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E13-0025-4641-A9AA-B876261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DA2C-8855-473E-9830-53056773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23C-6A73-466C-A29D-4D7C92CDE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thentic Mus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”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ze activity (fill in bla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t least two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class “corre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response to mus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book becomes listen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ily kinesthetic &amp; Visual spa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fic looking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ip book 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ppropriate levels of writing for proficiency level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size determines extent of writ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from “guided” writing to open-ended, more “independent”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ample prompts: Love is letting g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: title of song, s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: a number &amp; a color that symbolizes the song and 1 sentence to explain each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: a description of the things in the song that are 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ample prompts: Love is letting g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: write a diary entry as the bird and explain how it f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5: create another verse for the song, continuing the rhyme and rhythm from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6: write an “I know”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 know” poem (example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1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tle of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2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 s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3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4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sm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5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6: “I know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tle of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2:33:03Z</dcterms:created>
  <dc:creator>Christine Lanphere</dc:creator>
  <dc:description/>
  <dc:language>en-US</dc:language>
  <cp:lastModifiedBy>Christine Lanphere</cp:lastModifiedBy>
  <dcterms:modified xsi:type="dcterms:W3CDTF">2008-02-23T02:49:10Z</dcterms:modified>
  <cp:revision>6</cp:revision>
  <dc:subject/>
  <dc:title>Authentic Music</dc:title>
</cp:coreProperties>
</file>